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DD4E-8219-4597-A5DD-904321A2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0D89-2978-48C3-B451-37DACF34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F8B4-2581-404C-AD5D-064D5BDD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497D-384C-4D31-9CD2-10100EAF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7848-F50E-4EDD-9492-AC438C2C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F64B-A5E4-4E16-9A25-3066A9FB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A356-4925-4CED-9DE2-9CC8E1F7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81D6-15E2-416E-B194-BD866317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8EA6-4A00-47C1-938A-DF19FA18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8663-E570-4C10-9DB5-B4456FD3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AE95-D1C7-493C-85A0-A7D07A75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66890-A0CF-4358-9B7C-405527A1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6B22-2B32-4179-A98B-BAA649B1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3161-DF3A-49B1-AAB3-FDB349B3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CBA5-BA5D-4111-B192-B8E9149F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A983-CC42-4DCA-B154-B69A3678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454F-EF10-4414-B758-1B8667DF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4F4DB-904E-44A8-AC79-DBBF7360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776E-F65C-4866-898F-0892E766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5514F-6343-40B9-9251-CB2830F1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561BB-54A7-4924-A60C-4DDB973E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72238-3605-4B90-81D2-09F4AC1D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D642-22F3-4062-88DF-9185543B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141E0-BC02-4390-81D4-FCCD4F23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7EB3-0819-4B91-A974-DD3DC886B8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23A4-8938-4921-87BD-6B8AFD72C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133720" y="1447920"/>
          <a:ext cx="45720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45720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14300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ril, 2005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Report to RM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4800" y="30636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TPT E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Teel, representing TriEagle Energy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Vi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on Polliard, A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Vi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ie Ballantine, Stream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4280" y="380880"/>
            <a:ext cx="826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utomated Retail Transaction Ver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tools that  support the market in testing retail transactions in an automated fash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broken into 3 functional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Transfer Protoco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SCR  sent out to market for 21 day comment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9320" y="60948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the quality of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the quality of the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the effort required to complete certification te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the ‘time-to-market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5720" y="609480"/>
            <a:ext cx="43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action Vali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market participants to validate the accuracy of their transactions to X12 and TX Set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Message will inform tester of problem with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3200" y="609480"/>
            <a:ext cx="66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le Transfer Protocol Requir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Market Participants to send files 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ESB U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7160" y="609480"/>
            <a:ext cx="38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action S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y (Library) of transaction samples available for MP’s to download and use to test intern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all EDI transactions would be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support 2 TX Set Versions of transaction samples (when a Version upgrade is plann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95480" y="2506680"/>
            <a:ext cx="3353040" cy="3284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39760" y="1295280"/>
            <a:ext cx="6784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1:54:01Z</dcterms:created>
  <dc:creator/>
  <dc:description/>
  <dc:language>en-US</dc:language>
  <cp:lastModifiedBy>A. Boren</cp:lastModifiedBy>
  <dcterms:modified xsi:type="dcterms:W3CDTF">2005-03-01T22:11:06Z</dcterms:modified>
  <cp:revision>40</cp:revision>
  <dc:subject/>
  <dc:title>TTPT RMS March Report</dc:title>
</cp:coreProperties>
</file>